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7.png" ContentType="image/png"/>
  <Override PartName="/ppt/media/image30.wmf" ContentType="image/x-wmf"/>
  <Override PartName="/ppt/media/image23.png" ContentType="image/png"/>
  <Override PartName="/ppt/media/image22.png" ContentType="image/png"/>
  <Override PartName="/ppt/media/image10.wmf" ContentType="image/x-wmf"/>
  <Override PartName="/ppt/media/image25.png" ContentType="image/png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13.png" ContentType="image/png"/>
  <Override PartName="/ppt/media/image9.wmf" ContentType="image/x-wmf"/>
  <Override PartName="/ppt/media/image5.wmf" ContentType="image/x-wmf"/>
  <Override PartName="/ppt/media/image35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19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958-2661-478E-8B16-8D58EA8F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C68-7015-42CA-B934-9FA6A634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57EDC-5AB6-4460-8C0F-CDEC6736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34F0E-04C8-4F11-B9CA-6EFAAB26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BC57C-4E97-4840-A5B6-458B3B91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599B7-74FE-4614-ADED-CF89D46C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40A7D-48EE-453A-81C4-1D4E0BF5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3132F-8508-4B0F-A9FC-1A0717CF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278F3-D326-4A7F-9CE9-BB9D0DB5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A6CCF-F6EA-4357-81C2-B755730D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27FED-6463-4E3A-B43E-2ADAC36A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F4D22-9571-48B8-8FF6-B633D018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03A-F9D9-4C9C-9033-068917BF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C9843-5D00-48CA-A04E-F92F140B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B3228-52D9-45E0-AFA9-B2F6BAF2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8BD3D-ACDE-4616-B621-35D2255E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656AB-517B-4A75-BE42-EF1EBF7B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3FF10-D343-4184-87BE-8EC75C31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30F37-1E10-42D9-81C9-5B4A06A7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CF856-BE05-4A3A-9F83-49BAD702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25F5D-9541-43A5-AAA1-B54F0366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AE7F4-7FB5-4187-8718-06114263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70421-7115-419D-81F6-5B774B46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EE5-C379-4928-93F2-EEE8FC21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FAB23-2DD1-41BB-94C8-7EB998C1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01D7A-BD8D-434D-A5B1-612433D4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D5312-94A4-4DEE-B46B-E3E6498B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C6677-ECAE-4253-8142-DFAAE06A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27009-14B3-41B3-BC70-C774491E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2A329-3700-4DAF-B76F-6C8DB662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0A51D-29AE-423C-93CC-8BB6D17E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01839-78E1-4977-AC09-C254C816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A707D-BFB4-4D6D-88C9-298DC5F0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6DDAD-513A-44D4-B0D7-0C712E3F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FFBB-0727-4058-A660-36D3303E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B260F-3C3E-4419-8C62-CC0A8025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040A4-4A72-4004-BEEF-A2558EFD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7B215-7806-4526-AEC4-6DDA46A0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51CB3-B4D3-4F36-BAAA-F0C86C9E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BADBC-A472-4079-B029-2AD085AC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A8C02-9702-428A-8222-4B60C36D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8831C-E24C-4500-B106-28BF084B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99E1F-E94C-4F46-B9D4-715E74AD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80C00-7C86-4841-A02C-AEF3F818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1C53F-8031-464D-AAD8-FE97CBED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A6CE-780E-4EC1-98C0-2BE949CB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98C91-7C24-402D-A6EE-6C4574F4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81FB4-1BCB-45FE-ACF1-D0FD8A56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734B8-20B2-4D12-B419-DB966330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9FF63-843F-4724-8D84-1A09DEEA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7A26E-FD48-4AB0-87A0-0CE895ED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2CABD-AE03-4B6E-9159-D137D91C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E312C-BBA5-452E-A837-C08D7B41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486BF-B556-4101-B06F-E1BD8E46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CFF62-2DB0-463B-A69F-E50FC736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FCB78-6F2C-4B3D-8AF5-B4829347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AE80-BEEA-4D23-B02C-85865246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ED85C-4380-40F0-8410-C62AB9B8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C52ED-0655-4DE1-BC06-14C3CB9A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0DA89-A565-4F5C-A5F8-61F8DB04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C34AEF-9831-40B3-B3D9-775DCFFB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5F747-6816-45B8-ABD2-15D388C4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44EB3E-DB1E-4208-84CD-ACFA336B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73FCE-0ED2-4D38-89B7-23C3A6A1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0DD2B-4943-41CD-B843-B2F1B1CD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FD286-D69E-422E-A4EB-B05291E9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EBA6C-1DA8-4FFA-BB3A-FAE57C4B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30FC-A63E-4B97-9F91-340D082A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EF0B7-C928-4327-96FC-D4009A00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F140A8-73F6-4E97-9121-03510936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D2B72-E27F-4ED4-8822-A5E011DA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94900-D1E2-45AB-9577-1EA8B30A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0D771-1049-46FB-A9D2-01E9AC28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5434A-C64E-488A-96E0-9164457C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9CFE8-471C-4A2A-994C-698CC211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6531D-79FC-45AC-A276-EB18A7BF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BA074-EBF6-4C75-B231-1A74FB87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95D259-DB59-404F-B9DE-E5229B6D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0A93-FD03-4675-8F0B-6CBDEC8C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DD48D-EE28-4C09-9B9A-BF195ABA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7F5BA2-E7D6-491B-A434-F609E6F3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BF091F-0605-42BD-81F0-B5B21B1E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A85245-6741-48FE-B303-25C7AC25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0074C1-ADB7-471E-8F67-ABEF0595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508D91-BD75-4360-BFC9-B31C0EE4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1861B5-B864-4146-A4DB-E1F7CFFC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C8166C-E9E0-4679-B859-B9CBA004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0B1C47-1192-4F54-A522-F6F13178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0AD7AC-3C35-4E79-8C9B-D6D690B6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65B4-6886-446C-8CFB-BF5CF845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749792-6112-440D-8E98-BB72C8CD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83255-B653-4E9F-BBF6-290E32AC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689ED-2370-4CE3-B9A9-0F7D01B7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4CE1E2-1AE0-4C78-B9B3-F0C711DB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EF2005-DC74-4EA9-AD40-D5479833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D97187-9905-49F5-AA4E-E52482FD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2E99FB-8FE5-44AA-89D3-50CD495A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1F7DFD-9DA1-4AFE-85BC-7AB163B3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01FC78-0F49-4F7F-9E20-610E9170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FA9459-3C39-4349-8190-2CEC967E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267C-2804-408D-A182-FA228652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571E85-DA85-41EC-8E0F-523F0B84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CA62A0-36FB-4125-8CF7-72C9A32D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8C71BA-AEDD-4B03-A831-878D1378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E207A7-F496-43AD-860B-8E0D0EE9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AF949F-0193-43F9-815B-205EEB60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F89B19-7157-4A30-B466-D7E7DC10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A37AB-775E-40F1-A278-C96D2C72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89999F-18E3-4AD9-81FB-4A34B4F1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1CCEC4-3F5F-4B8D-8707-83648A5A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A86ED7-96AA-42A5-9B0E-F7626296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318-E355-4318-A6EB-428D0ED5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FBD7-114A-4FF4-92CB-EA9BD0BE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E1EA1B-0721-4F7C-BA80-559D4697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C633A7-1B31-41EC-ABC2-DCB508A8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F359EA-9CC5-40FB-905E-88E100A0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D57DC-1DC1-412C-B5BD-01568A83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A430FF-2E18-43CE-A2B6-A2C0BC4A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F8D5DD-934C-455A-BE5A-2510F34F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841E9E-446E-4909-BFCA-24ECB429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1BA7F1-6735-485C-8EE9-6DF6E731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C6E559-0365-4593-81AA-0634B267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B368F-6E86-42DE-8F1B-B637A2E9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68CD-67DC-483B-83C3-0414BDAC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ADA1A-F7D1-43CB-9202-09FB1499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E99940-3558-4EB7-B033-A37D22D0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37657B-C5F4-4587-BB0B-DA618037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FEFDF4-4805-41CE-9237-5084AE90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95A79A-64E9-4D5C-8754-A6D79C4A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0A29BE-D679-45B4-9830-054E6CB4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F262B2-4689-483B-93A8-CF603FF4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83EF2E-8E88-4F18-AD44-BB16C5F5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3FD12F-4A4F-4F54-828A-538ED84D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4AD451-3AF8-4C7F-8030-7F4E8857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91F8-271A-4847-9875-F4E8AD8B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72487D-E0EA-424A-9362-A777077D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8C3D1C-4C8F-4AC2-8D32-1F38227C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8FBCC1-F9F6-4D74-8E81-95E99636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F0FC34-9C7C-4B51-886F-B0263157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056DB1-AB35-4924-9133-F2F3AF76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66B7B7-EDCD-431B-BDCC-7561199C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1BAEA6-7275-4D31-9993-2BB49AA1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CCBCF6-D21E-4E0A-928D-923DACF7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9CF103-F05C-4286-90E0-16B3BBE5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5B6B1C-90C6-491B-AB85-9DF18885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68AE-E0DB-4159-9B2C-0294CFC3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1DCA87-1662-4305-8FE7-D56916A2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0D9D53-DE65-458F-A1B9-C26ECF69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888344-ACB0-4070-BDA4-CB53B2A0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DDAE7D-CAA6-4597-A423-5CC8F645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D3B1E9-3B25-4AED-8DB2-306F3CA3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94581B-DE08-456F-9438-ED5B5C5F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41462A-342A-4A37-A6F5-55C756E2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F32C68-D52B-4638-BE3A-AF4D703F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94A332-FE84-4660-AEBD-4FBE0EE3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AB11D3-52EF-4D1E-8D08-E6DCDC92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59B6-902C-42B6-B9DE-6B882FCE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D8B444-8957-4644-9819-1C82E6E2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B5655-F9F3-440B-BC38-A5D214E4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93709F-5695-4126-B727-258D8B1E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9E5B96-1B09-45C5-9088-E7B14515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EFA591-7B54-40EF-857B-EA413466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0F77D3-320D-49EA-B7FF-A0D630FD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C01477-C57A-49AF-A7A0-C5497FEC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B83CD0-03E6-4B23-BB39-94EE7E12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952127-2E5A-4A7D-8C9B-EA06C65B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564B09-5AC6-4726-82D9-B7A16400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66CA-EF90-40FE-B93D-E42997B4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8E3870-70CD-4EB8-9D51-E8F091D9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7A97C1-84AA-4D88-8654-2789BE53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809D96-FBC0-4D52-94FC-2251F2E5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D5E44D-88EE-4232-ACAF-6A27EF2F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379D3D-517F-4D65-90D2-7FE5A60D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9D4030-C165-4F75-9118-532D42C7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DB0DF2-B4A8-4176-9087-A9A7DEB0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26F987-3FBB-49CC-930A-CEB111D4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735D84-F44E-433D-9A8D-921C5FF4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B0A7EE-7F68-4CE5-BA31-363276A2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5C66-3426-4B0C-B892-B7206408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FD4985-75F9-4C28-BF3F-46F49AD8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B2AB94-41AC-45C5-A2F4-8E892C3C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D0D07F-DCEA-4B55-86A1-B51BEAB0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CC815F-566F-4DFF-BC1E-C3DB4F50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BA6BAC-B9C8-49F5-848B-3D2A72CC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30DFDD-6B42-4779-B643-59A15019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4BA1BD-789D-48FF-9B54-DC3B211E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4FE186-BE36-4C86-9E76-F6E97FFE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787360-82DC-46CB-B40A-803FD6BA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93150A-7922-456A-9C71-5AD1CDAA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DB1C0-491C-47D1-8632-132D4944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A550F0-3DAA-4A8E-BBC6-D21F147F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F31AC5-8B6A-49B0-822F-558426CA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C356C9-853C-499D-A12A-56D20BF5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DE7216-217C-4C5D-93B8-D1C37BCE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8B3B70-536C-4C24-84E2-D459DD09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B187C9-2F75-4136-863B-8C259ED0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1651D4-782B-448D-91C2-9334E08A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86DE6C-4094-46C8-9BFC-5675E274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D09633-A422-43AA-83DB-1BB8EB62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436241-07CF-4EDA-B08C-9B11DDD4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1290F-9CE3-411D-80BC-997FA18B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EB6D6D-6E48-4F1E-86BA-1F974247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1F9D32-8D13-4D28-889F-B0C0717B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C6EC98-A202-4594-B1C9-A46C24D8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F51FB6-E299-4238-B163-B503C0E7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61370F-A378-45F9-9740-CD9F15F7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FD5EBC-7DD1-44D3-BE17-01A42D7A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2CFD88-50B8-4506-8CA3-BADB711E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0AFD86-6B2E-4646-A19C-DFF8B53F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CCD2F1-9CE5-4B1E-A80D-B496B822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86C298-C6EE-4267-AAE8-2EA50325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A916-6B52-437B-B1E3-618F5C23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D8C660-7A24-4458-8E6A-F8FA968F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9B3C27-98AA-4F62-A775-C4F47C8D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E3487D-7507-4200-818D-40B5BD45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32C263-E9C6-486A-9407-F610A967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B4EE69-6357-4EA6-9994-EC54269C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5BFD32-5E0D-4C54-88AF-46BB2CCF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0E4AF4-A5B7-4F12-B611-99A64E5E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40FC98-3E62-421B-AB89-97F421FA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B2F833-9E2E-4745-A33A-25A6EDDA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D97339-73F4-4783-9D60-CAC223A0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814-437B-4D21-9E6D-F48FB073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7257F-0FED-4EC3-AAE4-7E33F0A0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3DB83A-F750-4981-993A-6C288E6B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693DE2-0587-4A64-BD24-13B2344F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8C1FCE-DF31-490B-99F2-65DD0586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792D40-657E-4193-A8AF-927C0CF7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56318F-3CA7-48A7-A9D8-49EBDB84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46853E-196F-4BA0-81D9-4C4ED176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708C9D-B45B-4487-8594-3723B5C7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9E4D36-D42C-4AE5-8DE3-A7F31B85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8063ED-8CCE-4380-92BC-078A8AEE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8BF207-EE24-4798-AC92-07E4ADCD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5353A-52E3-4FBE-A8A9-03FC6F6D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4A1CE6-6AB9-480B-90B6-759479E5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A79DE5-1C21-44BE-926C-D3C86D00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69F38F-06B3-4A21-B675-5D1274B2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10D468-45D4-49F5-BAFE-5E6D7473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4CE8DA-44BB-4AD5-92F5-54542183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8578C1-69E4-421B-9333-4C8C532A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B9BAFA-FF15-4EBB-9A76-E4290B8D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C261CB-52F7-444B-BEA1-7B56F44C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520B57-7EDF-4DFC-A8D5-7F4C0509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38060E-938B-4C65-80E9-918D2C61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95EBD-B991-4DD5-9EE9-84E1A9EA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3F8C2D-1D43-48E8-83C5-AEA61C53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1C2C45-3A9B-4C01-A50D-11AEFCB0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18CDF5-12DB-4589-809D-91E49C4E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0B552F-01C3-4A9B-BC6D-F1616D33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621C4F-ACB9-4F2F-A3B8-80412729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E40FCC-016C-4963-9FFE-15D15E9F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ADF971-8ED9-48D6-AA27-05C118E1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9F410E-FC97-4AA0-84C9-1AC6075E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497268-0391-4A61-8861-6404150F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C4CC01-457F-4C3F-A13B-C834A6CC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F5C17-EAB0-44F5-BA27-C0918293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9804C1-00FF-48F6-B588-98E3EA99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F5CA76-30B2-4F64-BDD8-5030D811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C001F2-251C-4111-A5F6-C0C76639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C7BCB2-7ED5-4141-BCC8-4FAEB5FD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5628B5-0C36-415F-BFE2-F6E7752C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11C9AD-AEF3-4880-B91C-662411BF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52F9DC-A444-4847-83CB-A084A953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E7277-9362-4F09-839C-540325AC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06005-23BE-4646-88C4-5996F551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69C31-D20A-49A5-AC3A-F043022C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F6A8F-A47D-483B-B98A-6A43FF9D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602DE-1E50-487A-ACDE-28FF77F9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E4DA3-136E-492E-9D05-E015548D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D71-7803-4DE4-B43C-02F3EE76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DE4DE-83B3-4FF9-BBF6-989E3C8E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61AF6-3FF2-43F7-A498-4BF3973A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4765D-313C-40B8-924E-734CBAF9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91BE1-9A0D-4218-A603-9BEF1B0F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3D2BC-B1EB-4E97-8D85-13035094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1A0A9-7547-4EA1-A2D5-E79C14C4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0C098-57E8-4345-8C50-54852E63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F006E-0448-42DA-8137-FD261A28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D11E6-3E95-49D3-A85B-11E06692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71864-81DC-46B7-BAA7-8C0DA8CC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3D4-0DB1-42BF-BC8D-4E202CD8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0E32A-6BD6-4182-AD81-6C60D8E2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7D8F2-8BD2-45F6-88A3-A16B6D7A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66802-878D-419E-A7EB-D7F3BC69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0CB16-7329-44FC-ADE3-DC95B737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EAD4F-DBE0-4568-A4EB-3ACAD0A1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9B041-8D33-4F66-A74F-9BEC18DF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61EBC-81C9-4302-A77F-10A454B6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D024D-EF71-404A-822D-7670008D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86878-73B9-42BB-A037-85863E53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61646-378E-46B7-81B1-601CA6B7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CD5-3D9B-4841-822D-53FF3475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C0A86-E2AB-4763-AA18-1DDEFBDE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E16F7-5146-46E2-BAE8-A0867895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6A8BB-1386-4388-98D7-5B5021D7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3AA5C-A66B-4711-B327-48C82451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B4537-BD5F-4802-AB61-DFFE34D8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E5364-3ECB-4F29-B9D7-E13F9C70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46D6A-EFC6-4816-98F9-FA55E693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0BD32-4C23-456D-9767-E26C535D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05271-F89F-4A05-8715-2B23B134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28451-E0D8-46B0-AE31-8D653D78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FBB-8578-41CF-9781-D621D4DA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13E93-5481-47F3-B621-3633209F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D09C8-6E31-4FD3-83E2-AA02F15F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D31A3-39F1-4913-B4A8-F6645E95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3193B-ABCB-4794-9941-3D7806FF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7EAAE-7462-43E3-88B9-6A18D86D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344E1-F49B-4ACC-AFB1-22C077C4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77C68-FB0E-45C2-9E42-0228FE1B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F5651-C084-405D-9C6D-03032035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F5A78-6566-4FC7-8FDA-C3C88372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66A7A-2253-4AFD-B1B5-FC4AF65D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A58-0F0B-4B02-BC84-9A93CD41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E6784-3938-429B-917D-89D0B729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D7885-250F-4434-B356-FD7FA764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BB2BA-1812-46DE-84AF-0D1CD58E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2C44C-982D-49C2-8D40-87F8AC54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BDF74-796A-4CDA-BBF7-68DE42EC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F26CB-54F3-40CE-B9F2-6CDA2923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1157C-A6F9-4514-92DA-349D80C9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B3899-3ADC-46B8-9265-3F894FD3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036D1-6F18-4577-9695-DE4D4474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080DD-61FE-4F1D-9CCD-AD78165D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315-07D7-4188-97E0-4ED0EEA3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EC982-92AE-4E4C-A8D8-4DD249BD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D0EA7-3169-493D-81A1-B890CB3E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D9B79-4F82-4113-AEB0-BA850283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6891C-8F13-45F3-A040-FCF89991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0C9C5-AA89-42AD-8D4C-489A57A4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A7A10-732F-43D8-B413-FE5EBD72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C7036-F89C-4F2F-9DB2-4E154304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CBC25-FDBF-4410-A156-7924B636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EE43E-6884-4C29-A8D9-BCA79C3F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6BBE7-026D-4B1C-B87F-7313CD54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899E-AC6E-45CC-8FDD-E5221EDEA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0022-3469-4A22-A872-4443F1E05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3562-8AC2-4895-B3BF-70874AFB7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2F04-A5CF-4DD1-B398-D38FE47E5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38CF-AB64-4199-BEE2-122C07291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EA38-9336-435D-8DE1-0CA169BB2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00B0-270E-4312-B7C4-2347A57F3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75C4-E177-4C64-A3D4-023EDA521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9945-1495-4E7D-AC74-2549B1041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E686-29E2-4760-AAD2-194A04BB4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E0FF-7C71-47B5-9596-13CD5DB8D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97E0-122C-46E7-84CF-939BBA1CF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B5AE-883A-4795-A6ED-D2C9A27CB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A1C7-23C8-4F07-9DBA-61467E9A5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34C7-F5BA-456B-A806-E04313529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C6C0-ECB7-4491-995D-63317350B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EFDB-B04B-4139-AB33-3D4CCF4F9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A4D0-7302-439B-9AC8-3836E123C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7041-BDD1-4C05-B05D-072DEF86A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6C10-3C8B-4780-AA80-134BC9AF4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1A6A-B0C2-497B-BCEC-CE71D17A3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E45A-A303-4E98-8ED1-575F05AD4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D11D-9C37-455E-BAFA-C556181CB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2308-2331-488D-A81F-140695477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6F20-CD71-4226-B24E-D4F91F493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A84A-433F-42BD-BF87-56205E83C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DA73-B6E0-4C2B-B5BE-D7AF3FDBA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A795-12DF-4A10-BD90-7DDCD4010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3"/>
          <p:cNvSpPr/>
          <p:nvPr/>
        </p:nvSpPr>
        <p:spPr>
          <a:xfrm>
            <a:off x="617400" y="631800"/>
            <a:ext cx="8008920" cy="1859400"/>
          </a:xfrm>
          <a:prstGeom prst="rect">
            <a:avLst/>
          </a:prstGeom>
          <a:gradFill rotWithShape="0">
            <a:gsLst>
              <a:gs pos="0">
                <a:srgbClr val="e9f7ff"/>
              </a:gs>
              <a:gs pos="50000">
                <a:srgbClr val="ffffff"/>
              </a:gs>
              <a:gs pos="100000">
                <a:srgbClr val="e9f7ff"/>
              </a:gs>
            </a:gsLst>
            <a:lin ang="5400000"/>
          </a:gradFill>
          <a:ln w="2844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4320" rIns="274320" tIns="320040" bIns="3200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articles as surfactants and antifo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4"/>
          <p:cNvSpPr/>
          <p:nvPr/>
        </p:nvSpPr>
        <p:spPr>
          <a:xfrm>
            <a:off x="885960" y="2824200"/>
            <a:ext cx="7386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Times New Roman"/>
              </a:rPr>
              <a:t>N. D. Denkov and S. Tcholakov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11"/>
          <p:cNvSpPr/>
          <p:nvPr/>
        </p:nvSpPr>
        <p:spPr>
          <a:xfrm>
            <a:off x="417600" y="3138480"/>
            <a:ext cx="838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Department of Chemical Engineering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Faculty of Chemistry, Sofia University, Sofia, Bulga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11"/>
          <p:cNvSpPr/>
          <p:nvPr/>
        </p:nvSpPr>
        <p:spPr>
          <a:xfrm>
            <a:off x="196920" y="4660920"/>
            <a:ext cx="886284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00"/>
                </a:solidFill>
                <a:latin typeface="Arial"/>
                <a:ea typeface="Arial"/>
              </a:rPr>
              <a:t>Discussion at COST D43 Training School </a:t>
            </a:r>
            <a:br>
              <a:rPr sz="2600"/>
            </a:b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“Fluids and Solid Interfaces”</a:t>
            </a:r>
            <a:r>
              <a:rPr b="1" lang="en-GB" sz="2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2600"/>
            </a:br>
            <a:r>
              <a:rPr b="1" lang="en-GB" sz="2600" spc="-1" strike="noStrike">
                <a:solidFill>
                  <a:srgbClr val="336600"/>
                </a:solidFill>
                <a:latin typeface="Arial"/>
                <a:ea typeface="Arial"/>
              </a:rPr>
              <a:t>Sofia, Bulgaria, 12–15 April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336600"/>
                </a:solidFill>
                <a:latin typeface="Arial"/>
                <a:ea typeface="Arial"/>
              </a:rPr>
              <a:t>2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Text Box 3"/>
          <p:cNvSpPr/>
          <p:nvPr/>
        </p:nvSpPr>
        <p:spPr>
          <a:xfrm>
            <a:off x="861840" y="279360"/>
            <a:ext cx="7467840" cy="1829160"/>
          </a:xfrm>
          <a:prstGeom prst="rect">
            <a:avLst/>
          </a:prstGeom>
          <a:gradFill rotWithShape="0">
            <a:gsLst>
              <a:gs pos="0">
                <a:srgbClr val="e5f5ff"/>
              </a:gs>
              <a:gs pos="50000">
                <a:srgbClr val="ffffff"/>
              </a:gs>
              <a:gs pos="100000">
                <a:srgbClr val="e5f5ff"/>
              </a:gs>
            </a:gsLst>
            <a:lin ang="5400000"/>
          </a:gradFill>
          <a:ln w="2844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Problem 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terfacial tension of particle adsorption monolay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2" name="Object 2"/>
          <p:cNvGraphicFramePr/>
          <p:nvPr/>
        </p:nvGraphicFramePr>
        <p:xfrm>
          <a:off x="5470560" y="2595600"/>
          <a:ext cx="207792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0560" y="2595600"/>
                    <a:ext cx="2077920" cy="495360"/>
                  </a:xfrm>
                  <a:prstGeom prst="rect">
                    <a:avLst/>
                  </a:prstGeom>
                  <a:ln w="936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6" name="Object 7"/>
          <p:cNvGraphicFramePr/>
          <p:nvPr/>
        </p:nvGraphicFramePr>
        <p:xfrm>
          <a:off x="5484960" y="3544920"/>
          <a:ext cx="247320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4960" y="3544920"/>
                    <a:ext cx="2473200" cy="563400"/>
                  </a:xfrm>
                  <a:prstGeom prst="rect">
                    <a:avLst/>
                  </a:prstGeom>
                  <a:ln w="936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9" name="Object 9"/>
              <p:cNvSpPr txBox="1"/>
              <p:nvPr/>
            </p:nvSpPr>
            <p:spPr>
              <a:xfrm>
                <a:off x="5470560" y="4632480"/>
                <a:ext cx="2313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TextBox 22"/>
          <p:cNvSpPr/>
          <p:nvPr/>
        </p:nvSpPr>
        <p:spPr>
          <a:xfrm>
            <a:off x="112320" y="3494160"/>
            <a:ext cx="51127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72000" bIns="3600" anchor="t">
            <a:spAutoFit/>
          </a:bodyPr>
          <a:p>
            <a:pPr marL="636480" indent="-4572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Ideal 2-dimensional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Box 23"/>
          <p:cNvSpPr/>
          <p:nvPr/>
        </p:nvSpPr>
        <p:spPr>
          <a:xfrm>
            <a:off x="258120" y="4470480"/>
            <a:ext cx="49543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72000" bIns="3600" anchor="t">
            <a:spAutoFit/>
          </a:bodyPr>
          <a:p>
            <a:pPr marL="636480" indent="-4572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Dilute adsorption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6480" indent="-4572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Low surface cover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Box 24"/>
          <p:cNvSpPr/>
          <p:nvPr/>
        </p:nvSpPr>
        <p:spPr>
          <a:xfrm>
            <a:off x="727200" y="2500200"/>
            <a:ext cx="406404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72000" bIns="3600" anchor="t">
            <a:spAutoFit/>
          </a:bodyPr>
          <a:p>
            <a:pPr marL="636480" indent="-4572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Gibbs isoth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25"/>
          <p:cNvSpPr/>
          <p:nvPr/>
        </p:nvSpPr>
        <p:spPr>
          <a:xfrm>
            <a:off x="6821640" y="3371760"/>
            <a:ext cx="1228680" cy="1079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4" name="Object 13"/>
              <p:cNvSpPr txBox="1"/>
              <p:nvPr/>
            </p:nvSpPr>
            <p:spPr>
              <a:xfrm>
                <a:off x="5470560" y="5708520"/>
                <a:ext cx="16668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5" name="TextBox 23"/>
          <p:cNvSpPr/>
          <p:nvPr/>
        </p:nvSpPr>
        <p:spPr>
          <a:xfrm>
            <a:off x="1358640" y="5837400"/>
            <a:ext cx="38631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72000" bIns="3600" anchor="t">
            <a:spAutoFit/>
          </a:bodyPr>
          <a:p>
            <a:pPr marL="636480" indent="-4572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urface cover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2"/>
          <p:cNvSpPr/>
          <p:nvPr/>
        </p:nvSpPr>
        <p:spPr>
          <a:xfrm>
            <a:off x="44280" y="75240"/>
            <a:ext cx="87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urface tension at 30 % surface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Box 13"/>
          <p:cNvSpPr/>
          <p:nvPr/>
        </p:nvSpPr>
        <p:spPr>
          <a:xfrm>
            <a:off x="658800" y="2968560"/>
            <a:ext cx="38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lose packing of particles on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8" name="Picture 14" descr="f8.png"/>
          <p:cNvPicPr/>
          <p:nvPr/>
        </p:nvPicPr>
        <p:blipFill>
          <a:blip r:embed="rId1"/>
          <a:stretch/>
        </p:blipFill>
        <p:spPr>
          <a:xfrm>
            <a:off x="212760" y="822240"/>
            <a:ext cx="3505320" cy="188136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17" descr="f9.png"/>
          <p:cNvPicPr/>
          <p:nvPr/>
        </p:nvPicPr>
        <p:blipFill>
          <a:blip r:embed="rId2"/>
          <a:stretch/>
        </p:blipFill>
        <p:spPr>
          <a:xfrm>
            <a:off x="4092480" y="839880"/>
            <a:ext cx="1914480" cy="173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0" name="Object 13"/>
              <p:cNvSpPr txBox="1"/>
              <p:nvPr/>
            </p:nvSpPr>
            <p:spPr>
              <a:xfrm>
                <a:off x="6175440" y="1287360"/>
                <a:ext cx="25192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Object 3"/>
              <p:cNvSpPr txBox="1"/>
              <p:nvPr/>
            </p:nvSpPr>
            <p:spPr>
              <a:xfrm>
                <a:off x="4440240" y="2873520"/>
                <a:ext cx="27255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69</m:t>
                        </m:r>
                      </m:num>
                      <m:den>
                        <m:sSup>
                          <m:e>
                            <m:r>
                              <m:t xml:space="preserve">π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32" name=""/>
          <p:cNvGraphicFramePr/>
          <p:nvPr/>
        </p:nvGraphicFramePr>
        <p:xfrm>
          <a:off x="225360" y="4857840"/>
          <a:ext cx="8739360" cy="1805040"/>
        </p:xfrm>
        <a:graphic>
          <a:graphicData uri="http://schemas.openxmlformats.org/drawingml/2006/table">
            <a:tbl>
              <a:tblPr/>
              <a:tblGrid>
                <a:gridCol w="2459160"/>
                <a:gridCol w="1063440"/>
                <a:gridCol w="1798920"/>
                <a:gridCol w="1633320"/>
                <a:gridCol w="1784520"/>
              </a:tblGrid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in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, nm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1" lang="en-US" sz="2400" spc="-1" strike="noStrike" baseline="-25000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, molec./m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</a:t>
                      </a:r>
                      <a:r>
                        <a:rPr b="1" lang="en-US" sz="2400" spc="-1" strike="noStrike" baseline="-25000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1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olec./m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, mN/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urfact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5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75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article (10 nm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6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7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.2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33" name="Object 15"/>
              <p:cNvSpPr txBox="1"/>
              <p:nvPr/>
            </p:nvSpPr>
            <p:spPr>
              <a:xfrm>
                <a:off x="2684520" y="4106880"/>
                <a:ext cx="42559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ΘΓ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2"/>
          <p:cNvSpPr/>
          <p:nvPr/>
        </p:nvSpPr>
        <p:spPr>
          <a:xfrm>
            <a:off x="352440" y="259560"/>
            <a:ext cx="87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Volmer adsorption isoth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Object 12"/>
              <p:cNvSpPr txBox="1"/>
              <p:nvPr/>
            </p:nvSpPr>
            <p:spPr>
              <a:xfrm>
                <a:off x="2984400" y="1079640"/>
                <a:ext cx="32068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kT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7" name="TextBox 2"/>
          <p:cNvSpPr/>
          <p:nvPr/>
        </p:nvSpPr>
        <p:spPr>
          <a:xfrm>
            <a:off x="804960" y="2695680"/>
            <a:ext cx="775008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72000" bIns="36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6600"/>
                </a:solidFill>
                <a:uFillTx/>
                <a:latin typeface="Arial"/>
              </a:rPr>
              <a:t>Surface tension at 80 % surface cover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8" name=""/>
          <p:cNvGraphicFramePr/>
          <p:nvPr/>
        </p:nvGraphicFramePr>
        <p:xfrm>
          <a:off x="914400" y="3328920"/>
          <a:ext cx="7105680" cy="1805040"/>
        </p:xfrm>
        <a:graphic>
          <a:graphicData uri="http://schemas.openxmlformats.org/drawingml/2006/table">
            <a:tbl>
              <a:tblPr/>
              <a:tblGrid>
                <a:gridCol w="2459160"/>
                <a:gridCol w="1063440"/>
                <a:gridCol w="1798560"/>
                <a:gridCol w="1784520"/>
              </a:tblGrid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in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, nm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</a:t>
                      </a:r>
                      <a:r>
                        <a:rPr b="1" lang="en-US" sz="2400" spc="-1" strike="noStrike" baseline="-25000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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, molec./m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, mN/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urfact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5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article (10 nm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46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7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9" name="Rectangle 16"/>
          <p:cNvSpPr/>
          <p:nvPr/>
        </p:nvSpPr>
        <p:spPr>
          <a:xfrm>
            <a:off x="689040" y="5499000"/>
            <a:ext cx="7840440" cy="914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articles are very inefficient at reducing surface tension even at very high surface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 Box 3"/>
          <p:cNvSpPr/>
          <p:nvPr/>
        </p:nvSpPr>
        <p:spPr>
          <a:xfrm>
            <a:off x="523800" y="293760"/>
            <a:ext cx="7896240" cy="1280520"/>
          </a:xfrm>
          <a:prstGeom prst="rect">
            <a:avLst/>
          </a:prstGeom>
          <a:gradFill rotWithShape="0">
            <a:gsLst>
              <a:gs pos="0">
                <a:srgbClr val="e5f5ff"/>
              </a:gs>
              <a:gs pos="50000">
                <a:srgbClr val="ffffff"/>
              </a:gs>
              <a:gs pos="100000">
                <a:srgbClr val="e5f5ff"/>
              </a:gs>
            </a:gsLst>
            <a:lin ang="5400000"/>
          </a:gradFill>
          <a:ln w="2844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Problem 3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ormation of complete monol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Picture 12" descr="E:\slavka\conf\Cheminz\f_13.png"/>
          <p:cNvPicPr/>
          <p:nvPr/>
        </p:nvPicPr>
        <p:blipFill>
          <a:blip r:embed="rId1"/>
          <a:stretch/>
        </p:blipFill>
        <p:spPr>
          <a:xfrm>
            <a:off x="614520" y="1768320"/>
            <a:ext cx="3417840" cy="2357640"/>
          </a:xfrm>
          <a:prstGeom prst="rect">
            <a:avLst/>
          </a:prstGeom>
          <a:ln w="0">
            <a:noFill/>
          </a:ln>
        </p:spPr>
      </p:pic>
      <p:sp>
        <p:nvSpPr>
          <p:cNvPr id="1242" name="TextBox 7"/>
          <p:cNvSpPr/>
          <p:nvPr/>
        </p:nvSpPr>
        <p:spPr>
          <a:xfrm>
            <a:off x="4302000" y="1738440"/>
            <a:ext cx="44751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72000" bIns="36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Volume frac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Object 13"/>
              <p:cNvSpPr txBox="1"/>
              <p:nvPr/>
            </p:nvSpPr>
            <p:spPr>
              <a:xfrm>
                <a:off x="4757760" y="2336760"/>
                <a:ext cx="18018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Object 12"/>
              <p:cNvSpPr txBox="1"/>
              <p:nvPr/>
            </p:nvSpPr>
            <p:spPr>
              <a:xfrm>
                <a:off x="6827760" y="2330280"/>
                <a:ext cx="17240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TextBox 20"/>
          <p:cNvSpPr/>
          <p:nvPr/>
        </p:nvSpPr>
        <p:spPr>
          <a:xfrm>
            <a:off x="4670280" y="2940120"/>
            <a:ext cx="405468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72000" bIns="36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Specific surface ar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Object 13"/>
              <p:cNvSpPr txBox="1"/>
              <p:nvPr/>
            </p:nvSpPr>
            <p:spPr>
              <a:xfrm>
                <a:off x="4981680" y="3544920"/>
                <a:ext cx="3421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sub>
                    </m:sSub>
                    <m:r>
                      <m:t xml:space="preserve">Φ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247" name=""/>
          <p:cNvGraphicFramePr/>
          <p:nvPr/>
        </p:nvGraphicFramePr>
        <p:xfrm>
          <a:off x="284040" y="4467240"/>
          <a:ext cx="6386760" cy="1977840"/>
        </p:xfrm>
        <a:graphic>
          <a:graphicData uri="http://schemas.openxmlformats.org/drawingml/2006/table">
            <a:tbl>
              <a:tblPr/>
              <a:tblGrid>
                <a:gridCol w="2395800"/>
                <a:gridCol w="1357200"/>
                <a:gridCol w="1539720"/>
                <a:gridCol w="1094040"/>
              </a:tblGrid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D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</a:t>
                      </a:r>
                      <a:r>
                        <a:rPr b="1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1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onodispe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5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olydispe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48" name="Object 20"/>
              <p:cNvSpPr txBox="1"/>
              <p:nvPr/>
            </p:nvSpPr>
            <p:spPr>
              <a:xfrm>
                <a:off x="2925720" y="5057640"/>
                <a:ext cx="866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Object 21"/>
              <p:cNvSpPr txBox="1"/>
              <p:nvPr/>
            </p:nvSpPr>
            <p:spPr>
              <a:xfrm>
                <a:off x="4214880" y="5057640"/>
                <a:ext cx="1160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/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Object 21"/>
              <p:cNvSpPr txBox="1"/>
              <p:nvPr/>
            </p:nvSpPr>
            <p:spPr>
              <a:xfrm>
                <a:off x="5667480" y="5057640"/>
                <a:ext cx="826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Φ</m:t>
                    </m:r>
                    <m:r>
                      <m:t xml:space="preserve">/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Object 23"/>
              <p:cNvSpPr txBox="1"/>
              <p:nvPr/>
            </p:nvSpPr>
            <p:spPr>
              <a:xfrm>
                <a:off x="2709720" y="5827680"/>
                <a:ext cx="1300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π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Object 24"/>
              <p:cNvSpPr txBox="1"/>
              <p:nvPr/>
            </p:nvSpPr>
            <p:spPr>
              <a:xfrm>
                <a:off x="4051440" y="5827680"/>
                <a:ext cx="1546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π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nary>
                    <m:r>
                      <m:t xml:space="preserve">/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Object 25"/>
              <p:cNvSpPr txBox="1"/>
              <p:nvPr/>
            </p:nvSpPr>
            <p:spPr>
              <a:xfrm>
                <a:off x="5614920" y="5827680"/>
                <a:ext cx="988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Φ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4" name="TextBox 44"/>
          <p:cNvSpPr/>
          <p:nvPr/>
        </p:nvSpPr>
        <p:spPr>
          <a:xfrm>
            <a:off x="6805440" y="4500720"/>
            <a:ext cx="220356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72000" bIns="36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ean volume surface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5" name="Object 26"/>
              <p:cNvSpPr txBox="1"/>
              <p:nvPr/>
            </p:nvSpPr>
            <p:spPr>
              <a:xfrm>
                <a:off x="7000920" y="5389560"/>
                <a:ext cx="166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2"/>
          <p:cNvSpPr/>
          <p:nvPr/>
        </p:nvSpPr>
        <p:spPr>
          <a:xfrm>
            <a:off x="225360" y="137160"/>
            <a:ext cx="87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ormation of complete adsorption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Box 13"/>
          <p:cNvSpPr/>
          <p:nvPr/>
        </p:nvSpPr>
        <p:spPr>
          <a:xfrm>
            <a:off x="2622600" y="976320"/>
            <a:ext cx="38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lose packing of particles on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8" name="Object 12"/>
              <p:cNvSpPr txBox="1"/>
              <p:nvPr/>
            </p:nvSpPr>
            <p:spPr>
              <a:xfrm>
                <a:off x="6475320" y="1139760"/>
                <a:ext cx="1862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π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r>
                      <m:t xml:space="preserve">ϕ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9" name="Picture 14" descr="f8.png"/>
          <p:cNvPicPr/>
          <p:nvPr/>
        </p:nvPicPr>
        <p:blipFill>
          <a:blip r:embed="rId1"/>
          <a:stretch/>
        </p:blipFill>
        <p:spPr>
          <a:xfrm>
            <a:off x="782640" y="836640"/>
            <a:ext cx="2065320" cy="110952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12" descr="E:\slavka\conf\Cheminz\f_13.png"/>
          <p:cNvPicPr/>
          <p:nvPr/>
        </p:nvPicPr>
        <p:blipFill>
          <a:blip r:embed="rId2"/>
          <a:srcRect l="67554" t="0" r="0" b="0"/>
          <a:stretch/>
        </p:blipFill>
        <p:spPr>
          <a:xfrm>
            <a:off x="299880" y="3087720"/>
            <a:ext cx="1438560" cy="3057480"/>
          </a:xfrm>
          <a:prstGeom prst="rect">
            <a:avLst/>
          </a:prstGeom>
          <a:ln w="0">
            <a:noFill/>
          </a:ln>
        </p:spPr>
      </p:pic>
      <p:sp>
        <p:nvSpPr>
          <p:cNvPr id="1261" name="TextBox 13"/>
          <p:cNvSpPr/>
          <p:nvPr/>
        </p:nvSpPr>
        <p:spPr>
          <a:xfrm>
            <a:off x="1549440" y="3024360"/>
            <a:ext cx="38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Number of parti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2" name="Object 12"/>
              <p:cNvSpPr txBox="1"/>
              <p:nvPr/>
            </p:nvSpPr>
            <p:spPr>
              <a:xfrm>
                <a:off x="5500800" y="2816280"/>
                <a:ext cx="29160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Φϕ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sSup>
                          <m:e>
                            <m:r>
                              <m:t xml:space="preserve">π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TextBox 13"/>
          <p:cNvSpPr/>
          <p:nvPr/>
        </p:nvSpPr>
        <p:spPr>
          <a:xfrm>
            <a:off x="1549440" y="4435560"/>
            <a:ext cx="38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Volume of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13"/>
          <p:cNvSpPr/>
          <p:nvPr/>
        </p:nvSpPr>
        <p:spPr>
          <a:xfrm>
            <a:off x="569880" y="2203560"/>
            <a:ext cx="84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articles required to cover the specific drop surface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Object 15"/>
              <p:cNvSpPr txBox="1"/>
              <p:nvPr/>
            </p:nvSpPr>
            <p:spPr>
              <a:xfrm>
                <a:off x="5305320" y="4095720"/>
                <a:ext cx="33051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aΦϕ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TextBox 13"/>
          <p:cNvSpPr/>
          <p:nvPr/>
        </p:nvSpPr>
        <p:spPr>
          <a:xfrm>
            <a:off x="1549440" y="5848200"/>
            <a:ext cx="38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Mass of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7" name="Object 16"/>
              <p:cNvSpPr txBox="1"/>
              <p:nvPr/>
            </p:nvSpPr>
            <p:spPr>
              <a:xfrm>
                <a:off x="5305320" y="5533920"/>
                <a:ext cx="33051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t xml:space="preserve">4</m:t>
                        </m:r>
                        <m:r>
                          <m:t xml:space="preserve">aΦϕ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8" name="Picture 12" descr="E:\slavka\conf\Cheminz\f_13.png"/>
          <p:cNvPicPr/>
          <p:nvPr/>
        </p:nvPicPr>
        <p:blipFill>
          <a:blip r:embed="rId1"/>
          <a:stretch/>
        </p:blipFill>
        <p:spPr>
          <a:xfrm>
            <a:off x="598320" y="1754280"/>
            <a:ext cx="3419640" cy="2355840"/>
          </a:xfrm>
          <a:prstGeom prst="rect">
            <a:avLst/>
          </a:prstGeom>
          <a:ln w="0">
            <a:noFill/>
          </a:ln>
        </p:spPr>
      </p:pic>
      <p:sp>
        <p:nvSpPr>
          <p:cNvPr id="1269" name="TextBox 2"/>
          <p:cNvSpPr/>
          <p:nvPr/>
        </p:nvSpPr>
        <p:spPr>
          <a:xfrm>
            <a:off x="511200" y="690480"/>
            <a:ext cx="3641760" cy="8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72000" bIns="36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Particles in continuous ph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0" name="Picture 3" descr="f10.png"/>
          <p:cNvPicPr/>
          <p:nvPr/>
        </p:nvPicPr>
        <p:blipFill>
          <a:blip r:embed="rId2"/>
          <a:stretch/>
        </p:blipFill>
        <p:spPr>
          <a:xfrm>
            <a:off x="5113440" y="1695600"/>
            <a:ext cx="1003320" cy="247176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12" descr="E:\slavka\conf\Cheminz\f_13.png"/>
          <p:cNvPicPr/>
          <p:nvPr/>
        </p:nvPicPr>
        <p:blipFill>
          <a:blip r:embed="rId3"/>
          <a:srcRect l="33279" t="0" r="0" b="0"/>
          <a:stretch/>
        </p:blipFill>
        <p:spPr>
          <a:xfrm>
            <a:off x="6205680" y="1711440"/>
            <a:ext cx="2414520" cy="2493720"/>
          </a:xfrm>
          <a:prstGeom prst="rect">
            <a:avLst/>
          </a:prstGeom>
          <a:ln w="0">
            <a:noFill/>
          </a:ln>
        </p:spPr>
      </p:pic>
      <p:sp>
        <p:nvSpPr>
          <p:cNvPr id="1272" name="TextBox 5"/>
          <p:cNvSpPr/>
          <p:nvPr/>
        </p:nvSpPr>
        <p:spPr>
          <a:xfrm>
            <a:off x="5175360" y="690480"/>
            <a:ext cx="3294000" cy="8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72000" bIns="36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Particles in dispersed ph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Box 13"/>
          <p:cNvSpPr/>
          <p:nvPr/>
        </p:nvSpPr>
        <p:spPr>
          <a:xfrm>
            <a:off x="509760" y="74520"/>
            <a:ext cx="800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ncentration of the particl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Object 13"/>
              <p:cNvSpPr txBox="1"/>
              <p:nvPr/>
            </p:nvSpPr>
            <p:spPr>
              <a:xfrm>
                <a:off x="974880" y="4394160"/>
                <a:ext cx="2238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Object 4"/>
              <p:cNvSpPr txBox="1"/>
              <p:nvPr/>
            </p:nvSpPr>
            <p:spPr>
              <a:xfrm>
                <a:off x="6138720" y="4408560"/>
                <a:ext cx="162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Object 5"/>
              <p:cNvSpPr txBox="1"/>
              <p:nvPr/>
            </p:nvSpPr>
            <p:spPr>
              <a:xfrm>
                <a:off x="345960" y="5221440"/>
                <a:ext cx="372456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aϕ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Φ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Object 5"/>
              <p:cNvSpPr txBox="1"/>
              <p:nvPr/>
            </p:nvSpPr>
            <p:spPr>
              <a:xfrm>
                <a:off x="5573880" y="5224320"/>
                <a:ext cx="28350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aϕ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8" name="Object 29"/>
          <p:cNvGraphicFramePr/>
          <p:nvPr/>
        </p:nvGraphicFramePr>
        <p:xfrm>
          <a:off x="1271520" y="554040"/>
          <a:ext cx="62676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9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554040"/>
                    <a:ext cx="62676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0" name="TextBox 27"/>
          <p:cNvSpPr/>
          <p:nvPr/>
        </p:nvSpPr>
        <p:spPr>
          <a:xfrm>
            <a:off x="630360" y="196920"/>
            <a:ext cx="756900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72000" bIns="36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articles in continuous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Box 29"/>
          <p:cNvSpPr/>
          <p:nvPr/>
        </p:nvSpPr>
        <p:spPr>
          <a:xfrm>
            <a:off x="1965240" y="1065240"/>
            <a:ext cx="2711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72000" bIns="3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ff"/>
                </a:solidFill>
                <a:latin typeface="Arial"/>
              </a:rPr>
              <a:t>P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0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6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= 1 g/m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a = 30 n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600" spc="-1" strike="noStrike" baseline="-25000">
                <a:solidFill>
                  <a:srgbClr val="0000ff"/>
                </a:solidFill>
                <a:latin typeface="Arial"/>
              </a:rPr>
              <a:t>32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= 1 </a:t>
            </a:r>
            <a:r>
              <a:rPr b="0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Box 31"/>
          <p:cNvSpPr/>
          <p:nvPr/>
        </p:nvSpPr>
        <p:spPr>
          <a:xfrm>
            <a:off x="4662720" y="1139760"/>
            <a:ext cx="25858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72000" bIns="3600" anchor="t">
            <a:spAutoFit/>
          </a:bodyPr>
          <a:p>
            <a:pPr marL="63648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Box 32"/>
          <p:cNvSpPr/>
          <p:nvPr/>
        </p:nvSpPr>
        <p:spPr>
          <a:xfrm>
            <a:off x="4528080" y="3809880"/>
            <a:ext cx="286020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72000" bIns="3600" anchor="t">
            <a:spAutoFit/>
          </a:bodyPr>
          <a:p>
            <a:pPr marL="63648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rfac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16"/>
          <p:cNvSpPr/>
          <p:nvPr/>
        </p:nvSpPr>
        <p:spPr>
          <a:xfrm>
            <a:off x="644400" y="5603760"/>
            <a:ext cx="7840800" cy="914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5 times lower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are sufficient to cover the same drop area by surfactant molecules,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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1.5 mg/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Text Box 3"/>
          <p:cNvSpPr/>
          <p:nvPr/>
        </p:nvSpPr>
        <p:spPr>
          <a:xfrm>
            <a:off x="658800" y="235080"/>
            <a:ext cx="7896240" cy="1829160"/>
          </a:xfrm>
          <a:prstGeom prst="rect">
            <a:avLst/>
          </a:prstGeom>
          <a:gradFill rotWithShape="0">
            <a:gsLst>
              <a:gs pos="0">
                <a:srgbClr val="e5f5ff"/>
              </a:gs>
              <a:gs pos="50000">
                <a:srgbClr val="ffffff"/>
              </a:gs>
              <a:gs pos="100000">
                <a:srgbClr val="e5f5ff"/>
              </a:gs>
            </a:gsLst>
            <a:lin ang="5400000"/>
          </a:gradFill>
          <a:ln w="2844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Problem 4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ressure for rupturing film stabilized by particle monolay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6" name="Picture 19" descr="part2.png"/>
          <p:cNvPicPr/>
          <p:nvPr/>
        </p:nvPicPr>
        <p:blipFill>
          <a:blip r:embed="rId1"/>
          <a:stretch/>
        </p:blipFill>
        <p:spPr>
          <a:xfrm>
            <a:off x="687240" y="2279520"/>
            <a:ext cx="4604040" cy="2032200"/>
          </a:xfrm>
          <a:prstGeom prst="rect">
            <a:avLst/>
          </a:prstGeom>
          <a:ln w="0">
            <a:noFill/>
          </a:ln>
        </p:spPr>
      </p:pic>
      <p:pic>
        <p:nvPicPr>
          <p:cNvPr id="1287" name="Picture 4" descr="Graphic1b"/>
          <p:cNvPicPr/>
          <p:nvPr/>
        </p:nvPicPr>
        <p:blipFill>
          <a:blip r:embed="rId2"/>
          <a:stretch/>
        </p:blipFill>
        <p:spPr>
          <a:xfrm>
            <a:off x="5770440" y="2403360"/>
            <a:ext cx="2706840" cy="1703520"/>
          </a:xfrm>
          <a:prstGeom prst="rect">
            <a:avLst/>
          </a:prstGeom>
          <a:ln w="0">
            <a:noFill/>
          </a:ln>
        </p:spPr>
      </p:pic>
      <p:sp>
        <p:nvSpPr>
          <p:cNvPr id="12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1" name="Object 13"/>
          <p:cNvGraphicFramePr/>
          <p:nvPr/>
        </p:nvGraphicFramePr>
        <p:xfrm>
          <a:off x="2284560" y="4640400"/>
          <a:ext cx="4768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4560" y="4640400"/>
                    <a:ext cx="4768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3" name="Object 14"/>
          <p:cNvGraphicFramePr/>
          <p:nvPr/>
        </p:nvGraphicFramePr>
        <p:xfrm>
          <a:off x="1111320" y="5991120"/>
          <a:ext cx="331452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1320" y="5991120"/>
                    <a:ext cx="3314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5" name="Object 15"/>
          <p:cNvGraphicFramePr/>
          <p:nvPr/>
        </p:nvGraphicFramePr>
        <p:xfrm>
          <a:off x="5519880" y="5918040"/>
          <a:ext cx="3375000" cy="93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6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19880" y="5918040"/>
                    <a:ext cx="337500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TextBox 23"/>
          <p:cNvSpPr/>
          <p:nvPr/>
        </p:nvSpPr>
        <p:spPr>
          <a:xfrm>
            <a:off x="1738440" y="181080"/>
            <a:ext cx="62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apillary pressure vs film thic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9" name="Object 24"/>
          <p:cNvGraphicFramePr/>
          <p:nvPr/>
        </p:nvGraphicFramePr>
        <p:xfrm>
          <a:off x="1027080" y="735120"/>
          <a:ext cx="690264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0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735120"/>
                    <a:ext cx="69026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1" name="Rectangle 16"/>
          <p:cNvSpPr/>
          <p:nvPr/>
        </p:nvSpPr>
        <p:spPr>
          <a:xfrm>
            <a:off x="644400" y="5740560"/>
            <a:ext cx="7840800" cy="914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he maximal pressure at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he critical capillary pressure for film rup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2" name="Object 9"/>
          <p:cNvGraphicFramePr/>
          <p:nvPr/>
        </p:nvGraphicFramePr>
        <p:xfrm>
          <a:off x="1298520" y="385920"/>
          <a:ext cx="6242040" cy="48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85920"/>
                    <a:ext cx="624204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4" name="Rectangle 2"/>
          <p:cNvSpPr/>
          <p:nvPr/>
        </p:nvSpPr>
        <p:spPr>
          <a:xfrm>
            <a:off x="496800" y="1054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ritical capillary pressure vs contact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16"/>
          <p:cNvSpPr/>
          <p:nvPr/>
        </p:nvSpPr>
        <p:spPr>
          <a:xfrm>
            <a:off x="658800" y="5380200"/>
            <a:ext cx="7840800" cy="1280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ritical pressure decreases with increasing of contact angle and with increasing the distance between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Picture 8" descr="f5.png"/>
          <p:cNvPicPr/>
          <p:nvPr/>
        </p:nvPicPr>
        <p:blipFill>
          <a:blip r:embed="rId1"/>
          <a:srcRect l="0" t="0" r="0" b="11461"/>
          <a:stretch/>
        </p:blipFill>
        <p:spPr>
          <a:xfrm>
            <a:off x="393840" y="1754280"/>
            <a:ext cx="8437320" cy="212868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3"/>
          <p:cNvSpPr/>
          <p:nvPr/>
        </p:nvSpPr>
        <p:spPr>
          <a:xfrm>
            <a:off x="847800" y="263520"/>
            <a:ext cx="7467480" cy="1389960"/>
          </a:xfrm>
          <a:prstGeom prst="rect">
            <a:avLst/>
          </a:prstGeom>
          <a:gradFill rotWithShape="0">
            <a:gsLst>
              <a:gs pos="0">
                <a:srgbClr val="e5f5ff"/>
              </a:gs>
              <a:gs pos="50000">
                <a:srgbClr val="ffffff"/>
              </a:gs>
              <a:gs pos="100000">
                <a:srgbClr val="e5f5ff"/>
              </a:gs>
            </a:gsLst>
            <a:lin ang="5400000"/>
          </a:gradFill>
          <a:ln w="2844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Problem 1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nergy of particle adsor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4" name="Object 8"/>
          <p:cNvGraphicFramePr/>
          <p:nvPr/>
        </p:nvGraphicFramePr>
        <p:xfrm>
          <a:off x="379440" y="5335560"/>
          <a:ext cx="8674200" cy="55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440" y="5335560"/>
                    <a:ext cx="8674200" cy="55872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56" name="Object 5"/>
          <p:cNvGraphicFramePr/>
          <p:nvPr/>
        </p:nvGraphicFramePr>
        <p:xfrm>
          <a:off x="379440" y="4046400"/>
          <a:ext cx="3054240" cy="46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9440" y="4046400"/>
                    <a:ext cx="305424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8" name="Object 6"/>
          <p:cNvGraphicFramePr/>
          <p:nvPr/>
        </p:nvGraphicFramePr>
        <p:xfrm>
          <a:off x="379440" y="6043680"/>
          <a:ext cx="3124080" cy="55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5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9440" y="6043680"/>
                    <a:ext cx="3124080" cy="55872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60" name="Object 7"/>
          <p:cNvGraphicFramePr/>
          <p:nvPr/>
        </p:nvGraphicFramePr>
        <p:xfrm>
          <a:off x="4711680" y="6127920"/>
          <a:ext cx="1506600" cy="39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61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11680" y="6127920"/>
                    <a:ext cx="1506600" cy="39024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62" name="Object 8"/>
          <p:cNvGraphicFramePr/>
          <p:nvPr/>
        </p:nvGraphicFramePr>
        <p:xfrm>
          <a:off x="2871720" y="3400560"/>
          <a:ext cx="3319560" cy="558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63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71720" y="3400560"/>
                    <a:ext cx="3319560" cy="55872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64" name="Object 9"/>
          <p:cNvGraphicFramePr/>
          <p:nvPr/>
        </p:nvGraphicFramePr>
        <p:xfrm>
          <a:off x="379440" y="4633920"/>
          <a:ext cx="7134120" cy="466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65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79440" y="4633920"/>
                    <a:ext cx="713412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TextBox 2"/>
          <p:cNvSpPr/>
          <p:nvPr/>
        </p:nvSpPr>
        <p:spPr>
          <a:xfrm>
            <a:off x="772920" y="196920"/>
            <a:ext cx="75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ptimal contact angle for film s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7" name="Object 2"/>
          <p:cNvGraphicFramePr/>
          <p:nvPr/>
        </p:nvGraphicFramePr>
        <p:xfrm>
          <a:off x="203040" y="1149480"/>
          <a:ext cx="4489560" cy="32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1149480"/>
                    <a:ext cx="4489560" cy="32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9" name="TextBox 9"/>
          <p:cNvSpPr/>
          <p:nvPr/>
        </p:nvSpPr>
        <p:spPr>
          <a:xfrm>
            <a:off x="1349280" y="96840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Desorpt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0" name="Object 10"/>
          <p:cNvGraphicFramePr/>
          <p:nvPr/>
        </p:nvGraphicFramePr>
        <p:xfrm>
          <a:off x="4751280" y="1228680"/>
          <a:ext cx="4152960" cy="322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51280" y="1228680"/>
                    <a:ext cx="415296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2" name="TextBox 11"/>
          <p:cNvSpPr/>
          <p:nvPr/>
        </p:nvSpPr>
        <p:spPr>
          <a:xfrm>
            <a:off x="5577840" y="95256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Critical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Box 3"/>
          <p:cNvSpPr/>
          <p:nvPr/>
        </p:nvSpPr>
        <p:spPr>
          <a:xfrm>
            <a:off x="2279520" y="1558800"/>
            <a:ext cx="2592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1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 = 30 mN/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 = 1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16"/>
          <p:cNvSpPr/>
          <p:nvPr/>
        </p:nvSpPr>
        <p:spPr>
          <a:xfrm>
            <a:off x="614520" y="4614840"/>
            <a:ext cx="7840440" cy="2112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30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80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&gt; 40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k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(irreversible adsorb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MA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 &gt; 0.7 MPa (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/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= 1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Very high critical capillary pressur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425520" y="246600"/>
            <a:ext cx="84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Destabilization of fil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6" name="Picture 8" descr="fig8.tif"/>
          <p:cNvPicPr/>
          <p:nvPr/>
        </p:nvPicPr>
        <p:blipFill>
          <a:blip r:embed="rId1"/>
          <a:stretch/>
        </p:blipFill>
        <p:spPr>
          <a:xfrm>
            <a:off x="1704960" y="1260360"/>
            <a:ext cx="5508720" cy="2411640"/>
          </a:xfrm>
          <a:prstGeom prst="rect">
            <a:avLst/>
          </a:prstGeom>
          <a:ln w="0">
            <a:noFill/>
          </a:ln>
        </p:spPr>
      </p:pic>
      <p:sp>
        <p:nvSpPr>
          <p:cNvPr id="1317" name="TextBox 9"/>
          <p:cNvSpPr/>
          <p:nvPr/>
        </p:nvSpPr>
        <p:spPr>
          <a:xfrm>
            <a:off x="225360" y="4181400"/>
            <a:ext cx="857412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72000" bIns="3600" anchor="t">
            <a:spAutoFit/>
          </a:bodyPr>
          <a:p>
            <a:pPr marL="63648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articles can aggregate on the surface and forming empty regions in the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648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he stability is much lowe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Text Box 2"/>
          <p:cNvSpPr/>
          <p:nvPr/>
        </p:nvSpPr>
        <p:spPr>
          <a:xfrm>
            <a:off x="722160" y="1960560"/>
            <a:ext cx="7747200" cy="2103480"/>
          </a:xfrm>
          <a:prstGeom prst="rect">
            <a:avLst/>
          </a:prstGeom>
          <a:gradFill rotWithShape="0">
            <a:gsLst>
              <a:gs pos="0">
                <a:srgbClr val="e5ffe5"/>
              </a:gs>
              <a:gs pos="50000">
                <a:srgbClr val="ffffff"/>
              </a:gs>
              <a:gs pos="100000">
                <a:srgbClr val="e5ffe5"/>
              </a:gs>
            </a:gsLst>
            <a:lin ang="5400000"/>
          </a:gradFill>
          <a:ln w="1908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Thank you for your attentio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16"/>
          <p:cNvSpPr/>
          <p:nvPr/>
        </p:nvSpPr>
        <p:spPr>
          <a:xfrm>
            <a:off x="719280" y="1996920"/>
            <a:ext cx="7675560" cy="633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Particle adsorption energy = - </a:t>
            </a:r>
            <a:r>
              <a:rPr b="1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1-cos</a:t>
            </a:r>
            <a:r>
              <a:rPr b="1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600" spc="-1" strike="noStrike" baseline="30000">
                <a:solidFill>
                  <a:srgbClr val="0000ff"/>
                </a:solidFill>
                <a:latin typeface="Arial"/>
              </a:rPr>
              <a:t>2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7" name=""/>
          <p:cNvGraphicFramePr/>
          <p:nvPr/>
        </p:nvGraphicFramePr>
        <p:xfrm>
          <a:off x="1628640" y="5092560"/>
          <a:ext cx="6096240" cy="158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, 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, J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 9.4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en-US" sz="20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 9.4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en-US" sz="20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 2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 9.4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en-US" sz="20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8" name="TextBox 3"/>
          <p:cNvSpPr/>
          <p:nvPr/>
        </p:nvSpPr>
        <p:spPr>
          <a:xfrm>
            <a:off x="1903320" y="4579920"/>
            <a:ext cx="578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1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= 30 mN/m;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= 90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9" name="Picture 4" descr="f1.png"/>
          <p:cNvPicPr/>
          <p:nvPr/>
        </p:nvPicPr>
        <p:blipFill>
          <a:blip r:embed="rId1"/>
          <a:stretch/>
        </p:blipFill>
        <p:spPr>
          <a:xfrm>
            <a:off x="534960" y="2921040"/>
            <a:ext cx="7893000" cy="16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0" name="Object 8"/>
          <p:cNvGraphicFramePr/>
          <p:nvPr/>
        </p:nvGraphicFramePr>
        <p:xfrm>
          <a:off x="2965320" y="3981600"/>
          <a:ext cx="3543480" cy="55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65320" y="3981600"/>
                    <a:ext cx="3543480" cy="55872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2" name="Object 3"/>
          <p:cNvGraphicFramePr/>
          <p:nvPr/>
        </p:nvGraphicFramePr>
        <p:xfrm>
          <a:off x="1601640" y="352440"/>
          <a:ext cx="6024600" cy="558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1640" y="352440"/>
                    <a:ext cx="6024600" cy="55872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4" name="Left Brace 7"/>
          <p:cNvSpPr/>
          <p:nvPr/>
        </p:nvSpPr>
        <p:spPr>
          <a:xfrm rot="16200000">
            <a:off x="3676680" y="-647640"/>
            <a:ext cx="584280" cy="3244680"/>
          </a:xfrm>
          <a:custGeom>
            <a:avLst/>
            <a:gdLst>
              <a:gd name="textAreaLeft" fmla="*/ 373320 w 584280"/>
              <a:gd name="textAreaRight" fmla="*/ 584640 w 584280"/>
              <a:gd name="textAreaTop" fmla="*/ 15120 h 3244680"/>
              <a:gd name="textAreaBottom" fmla="*/ 3229560 h 324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2"/>
                  <a:pt x="10800" y="324"/>
                </a:cubicBezTo>
                <a:lnTo>
                  <a:pt x="10800" y="10476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2"/>
                  <a:pt x="10800" y="11124"/>
                </a:cubicBezTo>
                <a:lnTo>
                  <a:pt x="10800" y="21276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eft Brace 8"/>
          <p:cNvSpPr/>
          <p:nvPr/>
        </p:nvSpPr>
        <p:spPr>
          <a:xfrm rot="16200000">
            <a:off x="6456240" y="96480"/>
            <a:ext cx="585720" cy="1699920"/>
          </a:xfrm>
          <a:custGeom>
            <a:avLst/>
            <a:gdLst>
              <a:gd name="textAreaLeft" fmla="*/ 374400 w 585720"/>
              <a:gd name="textAreaRight" fmla="*/ 586080 w 585720"/>
              <a:gd name="textAreaTop" fmla="*/ 15120 h 1699920"/>
              <a:gd name="textAreaBottom" fmla="*/ 1684800 h 169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9"/>
                  <a:pt x="10800" y="618"/>
                </a:cubicBezTo>
                <a:lnTo>
                  <a:pt x="10800" y="10182"/>
                </a:lnTo>
                <a:cubicBezTo>
                  <a:pt x="10800" y="10491"/>
                  <a:pt x="5400" y="10800"/>
                  <a:pt x="0" y="10800"/>
                </a:cubicBezTo>
                <a:cubicBezTo>
                  <a:pt x="5400" y="10800"/>
                  <a:pt x="10800" y="11109"/>
                  <a:pt x="10800" y="11418"/>
                </a:cubicBezTo>
                <a:lnTo>
                  <a:pt x="10800" y="20982"/>
                </a:lnTo>
                <a:cubicBezTo>
                  <a:pt x="10800" y="2129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Box 9"/>
          <p:cNvSpPr/>
          <p:nvPr/>
        </p:nvSpPr>
        <p:spPr>
          <a:xfrm>
            <a:off x="5591160" y="1222200"/>
            <a:ext cx="253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D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Box 10"/>
          <p:cNvSpPr/>
          <p:nvPr/>
        </p:nvSpPr>
        <p:spPr>
          <a:xfrm>
            <a:off x="2716200" y="1222200"/>
            <a:ext cx="253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R1-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8" name="Object 2"/>
          <p:cNvGraphicFramePr/>
          <p:nvPr/>
        </p:nvGraphicFramePr>
        <p:xfrm>
          <a:off x="1353960" y="988920"/>
          <a:ext cx="6275520" cy="46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988920"/>
                    <a:ext cx="627552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0" name="Rectangle 2"/>
          <p:cNvSpPr/>
          <p:nvPr/>
        </p:nvSpPr>
        <p:spPr>
          <a:xfrm>
            <a:off x="352440" y="187920"/>
            <a:ext cx="87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dsorption energy vs particl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Rectangle 16"/>
          <p:cNvSpPr/>
          <p:nvPr/>
        </p:nvSpPr>
        <p:spPr>
          <a:xfrm>
            <a:off x="317520" y="5940360"/>
            <a:ext cx="8520120" cy="633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</a:t>
            </a: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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&gt;&gt; </a:t>
            </a: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T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for </a:t>
            </a: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&gt; 1 nm</a:t>
            </a: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Box 4"/>
          <p:cNvSpPr/>
          <p:nvPr/>
        </p:nvSpPr>
        <p:spPr>
          <a:xfrm>
            <a:off x="1603440" y="958680"/>
            <a:ext cx="578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1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= 30 mN/m;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= 90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2"/>
          <p:cNvSpPr/>
          <p:nvPr/>
        </p:nvSpPr>
        <p:spPr>
          <a:xfrm>
            <a:off x="90360" y="64080"/>
            <a:ext cx="879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dsorption energy for particles with different contact 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4" name="Picture 6" descr="f2.png"/>
          <p:cNvPicPr/>
          <p:nvPr/>
        </p:nvPicPr>
        <p:blipFill>
          <a:blip r:embed="rId1"/>
          <a:stretch/>
        </p:blipFill>
        <p:spPr>
          <a:xfrm>
            <a:off x="1346040" y="1220760"/>
            <a:ext cx="6481800" cy="111780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7" descr="f3.png"/>
          <p:cNvPicPr/>
          <p:nvPr/>
        </p:nvPicPr>
        <p:blipFill>
          <a:blip r:embed="rId2"/>
          <a:stretch/>
        </p:blipFill>
        <p:spPr>
          <a:xfrm>
            <a:off x="1343160" y="2411280"/>
            <a:ext cx="6616440" cy="173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6" name=""/>
          <p:cNvGraphicFramePr/>
          <p:nvPr/>
        </p:nvGraphicFramePr>
        <p:xfrm>
          <a:off x="523800" y="5024520"/>
          <a:ext cx="8304120" cy="1584360"/>
        </p:xfrm>
        <a:graphic>
          <a:graphicData uri="http://schemas.openxmlformats.org/drawingml/2006/table">
            <a:tbl>
              <a:tblPr/>
              <a:tblGrid>
                <a:gridCol w="1795680"/>
                <a:gridCol w="1584360"/>
                <a:gridCol w="1966680"/>
                <a:gridCol w="1238400"/>
                <a:gridCol w="17190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, d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1-2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IS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, J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68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69.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 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 2.2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en-US" sz="20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 2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 9.4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en-US" sz="20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74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5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8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 3.3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en-US" sz="20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87" name="TextBox 9"/>
          <p:cNvSpPr/>
          <p:nvPr/>
        </p:nvSpPr>
        <p:spPr>
          <a:xfrm>
            <a:off x="2023920" y="4451400"/>
            <a:ext cx="578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1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= 30 mN/m;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= 10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8" name="Object 8"/>
          <p:cNvGraphicFramePr/>
          <p:nvPr/>
        </p:nvGraphicFramePr>
        <p:xfrm>
          <a:off x="3149640" y="1824120"/>
          <a:ext cx="302580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9640" y="1824120"/>
                    <a:ext cx="3025800" cy="4539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90" name="Object 39"/>
          <p:cNvGraphicFramePr/>
          <p:nvPr/>
        </p:nvGraphicFramePr>
        <p:xfrm>
          <a:off x="3170160" y="3730680"/>
          <a:ext cx="330984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1" name="Object 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70160" y="3730680"/>
                    <a:ext cx="3309840" cy="4762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2"/>
          <p:cNvSpPr/>
          <p:nvPr/>
        </p:nvSpPr>
        <p:spPr>
          <a:xfrm>
            <a:off x="352440" y="187920"/>
            <a:ext cx="87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dsorption energy vs contact 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3" name="Object 2"/>
          <p:cNvGraphicFramePr/>
          <p:nvPr/>
        </p:nvGraphicFramePr>
        <p:xfrm>
          <a:off x="209520" y="809640"/>
          <a:ext cx="641052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809640"/>
                    <a:ext cx="641052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5" name="TextBox 3"/>
          <p:cNvSpPr/>
          <p:nvPr/>
        </p:nvSpPr>
        <p:spPr>
          <a:xfrm>
            <a:off x="860400" y="779400"/>
            <a:ext cx="578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1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= 30 mN/m;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= 10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16"/>
          <p:cNvSpPr/>
          <p:nvPr/>
        </p:nvSpPr>
        <p:spPr>
          <a:xfrm>
            <a:off x="345960" y="5700600"/>
            <a:ext cx="8520120" cy="975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ignificant effect of contact angle on the energy of adsorption 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8" descr="f6.png"/>
          <p:cNvPicPr/>
          <p:nvPr/>
        </p:nvPicPr>
        <p:blipFill>
          <a:blip r:embed="rId3"/>
          <a:stretch/>
        </p:blipFill>
        <p:spPr>
          <a:xfrm>
            <a:off x="6578640" y="1093680"/>
            <a:ext cx="17859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2"/>
          <p:cNvSpPr/>
          <p:nvPr/>
        </p:nvSpPr>
        <p:spPr>
          <a:xfrm>
            <a:off x="225360" y="137160"/>
            <a:ext cx="87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Desorption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9" name="Picture 6" descr="f4.png"/>
          <p:cNvPicPr/>
          <p:nvPr/>
        </p:nvPicPr>
        <p:blipFill>
          <a:blip r:embed="rId1"/>
          <a:stretch/>
        </p:blipFill>
        <p:spPr>
          <a:xfrm>
            <a:off x="1243080" y="1084320"/>
            <a:ext cx="6867360" cy="4298760"/>
          </a:xfrm>
          <a:prstGeom prst="rect">
            <a:avLst/>
          </a:prstGeom>
          <a:ln w="0">
            <a:noFill/>
          </a:ln>
        </p:spPr>
      </p:pic>
      <p:sp>
        <p:nvSpPr>
          <p:cNvPr id="120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16"/>
          <p:cNvSpPr/>
          <p:nvPr/>
        </p:nvSpPr>
        <p:spPr>
          <a:xfrm>
            <a:off x="293760" y="5580000"/>
            <a:ext cx="8520120" cy="1036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esorption is favored into the phase which wets better the particle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2"/>
          <p:cNvSpPr/>
          <p:nvPr/>
        </p:nvSpPr>
        <p:spPr>
          <a:xfrm>
            <a:off x="225360" y="137160"/>
            <a:ext cx="87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Desorption energy vs contact 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3" name=""/>
          <p:cNvGraphicFramePr/>
          <p:nvPr/>
        </p:nvGraphicFramePr>
        <p:xfrm>
          <a:off x="1494000" y="2550960"/>
          <a:ext cx="6095880" cy="158436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, d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, J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2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en-US" sz="20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9.4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en-US" sz="20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6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1" lang="en-US" sz="2000" spc="-1" strike="noStrike" baseline="30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4" name="TextBox 3"/>
          <p:cNvSpPr/>
          <p:nvPr/>
        </p:nvSpPr>
        <p:spPr>
          <a:xfrm>
            <a:off x="1768320" y="2038320"/>
            <a:ext cx="578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1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= 30 mN/m;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= 10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Object 3"/>
              <p:cNvSpPr txBox="1"/>
              <p:nvPr/>
            </p:nvSpPr>
            <p:spPr>
              <a:xfrm>
                <a:off x="1677960" y="1003320"/>
                <a:ext cx="5867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π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∓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π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6" name="Object 2"/>
          <p:cNvGraphicFramePr/>
          <p:nvPr/>
        </p:nvGraphicFramePr>
        <p:xfrm>
          <a:off x="847800" y="679320"/>
          <a:ext cx="702144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679320"/>
                    <a:ext cx="702144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8" name="Rectangle 2"/>
          <p:cNvSpPr/>
          <p:nvPr/>
        </p:nvSpPr>
        <p:spPr>
          <a:xfrm>
            <a:off x="225360" y="137160"/>
            <a:ext cx="87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Desorption energy vs contact 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3"/>
          <p:cNvSpPr/>
          <p:nvPr/>
        </p:nvSpPr>
        <p:spPr>
          <a:xfrm>
            <a:off x="1784520" y="779400"/>
            <a:ext cx="578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1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= 30 mN/m;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= 10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16"/>
          <p:cNvSpPr/>
          <p:nvPr/>
        </p:nvSpPr>
        <p:spPr>
          <a:xfrm>
            <a:off x="1170000" y="6008760"/>
            <a:ext cx="7081920" cy="599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aximum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at cos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= 0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= 90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17:13:37Z</dcterms:created>
  <dc:creator>UNKNOWN</dc:creator>
  <dc:description/>
  <dc:language>en-US</dc:language>
  <cp:lastModifiedBy>sc</cp:lastModifiedBy>
  <dcterms:modified xsi:type="dcterms:W3CDTF">2011-04-13T13:30:41Z</dcterms:modified>
  <cp:revision>1122</cp:revision>
  <dc:subject/>
  <dc:title>No Slide Title</dc:title>
</cp:coreProperties>
</file>